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BB6-E567-4683-BDE0-52D29FF6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19C-18CC-41E3-8EDF-45B73DD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351-3A60-46D8-BD4B-4A2B7054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DC5-54A7-4022-B404-900BCEAD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E38A-9982-46D1-BB5F-F3A90C5F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FA6F-11F0-4A74-9C58-B3574E37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0DCC-256C-4128-ACC1-2888FEC4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1E75-8609-439C-92AD-80F67A2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6096-9DD1-4265-A43B-90C5F424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140-2FAD-4C32-9E24-8C6FAED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443F-0B83-4C41-ABAB-5FA9421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5DA-EDBF-43CB-AE6D-BA4DE91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3F20-EFF6-46E1-93B8-CFD6B26A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310E-FE0C-451A-9AAB-F5343BEE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EB0E-E57C-496F-8216-1B182292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437E-F107-4F77-9E96-D1A29979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7BF9-A43F-44FD-A888-72B82C4D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CE0-00C1-47A5-AA50-9736CA3E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D03-18B0-4BB9-A625-3014C3F6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FDA-A3F5-43EE-B885-EAC5E926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D10-C858-4EB1-A697-5693ED28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B3E-84EF-4A6D-846B-BCAD8DD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2D6-96C0-4605-9E4F-D82ABA6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08A-0968-48E7-B63C-B6FE03C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4E3E-F0C0-4234-A91B-A06CC3DFD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4F80-68E0-424A-8A0B-E66648E644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b7"/>
                </a:solidFill>
                <a:latin typeface="Arial Black"/>
              </a:rPr>
              <a:t>ОТВЕТЫ </a:t>
            </a:r>
            <a:br>
              <a:rPr sz="10600"/>
            </a:br>
            <a:r>
              <a:rPr b="0" lang="en-US" sz="10600" spc="-1" strike="noStrike">
                <a:solidFill>
                  <a:srgbClr val="ffffb7"/>
                </a:solidFill>
                <a:latin typeface="Arial Black"/>
              </a:rPr>
              <a:t>К ТЕСТАМ</a:t>
            </a:r>
            <a:endParaRPr b="1" lang="en-US" sz="10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95280" y="333360"/>
          <a:ext cx="8388360" cy="6087960"/>
        </p:xfrm>
        <a:graphic>
          <a:graphicData uri="http://schemas.openxmlformats.org/drawingml/2006/table">
            <a:tbl>
              <a:tblPr/>
              <a:tblGrid>
                <a:gridCol w="2097000"/>
                <a:gridCol w="2097000"/>
                <a:gridCol w="2097360"/>
                <a:gridCol w="20970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15:44Z</dcterms:created>
  <dc:creator>Андрей</dc:creator>
  <dc:description/>
  <dc:language>en-US</dc:language>
  <cp:lastModifiedBy>Андрей</cp:lastModifiedBy>
  <dcterms:modified xsi:type="dcterms:W3CDTF">2007-10-25T16:40:29Z</dcterms:modified>
  <cp:revision>3</cp:revision>
  <dc:subject/>
  <dc:title>ОТВЕТЫ  К ТЕСТАМ</dc:title>
</cp:coreProperties>
</file>