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D15-E6A6-4ABF-9494-523FF55E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6BF-5FB9-4325-903C-AD3E73B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368-D917-4F00-A840-E69F9A0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9A0-6A34-4C1F-AEC7-998DE69F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F610-3F22-4D95-8D0D-B898AA6D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E2A6-C8BC-476F-B454-B078EAC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A87F-B858-49BE-8AC8-43A83B2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9198C-4EAB-48B3-BC36-942B4A1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48E1D-A246-4B99-A449-614D119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DE54-5C1F-437C-92B3-31D5D83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764E8-2391-4CA8-B405-051F6C5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C12-FE7D-41AE-BBA7-0B4D71B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DC8F-FDFA-4FA7-AA6B-02A9728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9A88-9669-4F64-894B-CF85097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CB3C-4AB2-437B-BFC4-E8354AC1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E381-05AE-4642-BA95-2F8C21B0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DE067-1B9E-4A3D-9435-F9A2114F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8E1-9554-432E-9767-4E690437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A4F-4127-4626-BE7C-2E68EF9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742-54B3-46BE-85C2-C7448839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746-8F2A-46AA-9CFF-FEE60FB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436-F5CA-431A-8A17-F2236EE0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08F-B252-4B11-AC0C-2E05C96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719-257C-46C4-ADBB-0A4F505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BA9-A98C-4237-ABBD-370453BDD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C986-D00E-47FF-B888-EF93DE54F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ahoma"/>
              </a:rPr>
              <a:t>Первоначальные сведения о строении веществ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Что вы знаете о размерах молекул?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ahoma"/>
              </a:rPr>
              <a:t>Из чего состоят вещества?</a:t>
            </a:r>
            <a:br>
              <a:rPr sz="8800"/>
            </a:br>
            <a:br>
              <a:rPr sz="6600"/>
            </a:b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Какие опыты подтверждают, что вещества состоят из мельчайших частиц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ahoma"/>
              </a:rPr>
              <a:t>Что такое диффузия?</a:t>
            </a:r>
            <a:br>
              <a:rPr sz="7200"/>
            </a:b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Опишите свойства газов.</a:t>
            </a:r>
            <a:br>
              <a:rPr sz="8000"/>
            </a:br>
            <a:br>
              <a:rPr sz="4800"/>
            </a:b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ahoma"/>
              </a:rPr>
              <a:t>Какие три состояния вещества вам известны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Чем объяснить способность жидкостей сохранять свой объём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141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Объясните явление смачивания твердого тела жидкостью. Приведите примеры.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Приведите примеры диффузии в окружающем мире?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Как взаимодействуют между собой молекулы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Что</a:t>
            </a:r>
            <a:r>
              <a:rPr b="0" lang="en-US" sz="8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такое</a:t>
            </a:r>
            <a:r>
              <a:rPr b="0" lang="en-US" sz="8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молекула</a:t>
            </a:r>
            <a:r>
              <a:rPr b="0" lang="en-US" sz="8000" spc="-1" strike="noStrike">
                <a:solidFill>
                  <a:srgbClr val="ffcc00"/>
                </a:solidFill>
                <a:latin typeface="Tahoma"/>
              </a:rPr>
              <a:t>?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Как расположены частицы в твердом теле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В каких состояниях может находиться вода? Назовите их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284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гда действует отталкивание, а когда притяжение между молекулами?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Как протекает диффузия в жидкостях? </a:t>
            </a:r>
            <a:br>
              <a:rPr sz="6600"/>
            </a:b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Опишите опыт.</a:t>
            </a:r>
            <a:br>
              <a:rPr sz="6600"/>
            </a:br>
            <a:br>
              <a:rPr sz="60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Как меняется объём тела при изменении расстояния между частицами?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ahoma"/>
              </a:rPr>
              <a:t>Опишите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cc00"/>
                </a:solidFill>
                <a:latin typeface="Tahoma"/>
              </a:rPr>
              <a:t>свойства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cc00"/>
                </a:solidFill>
                <a:latin typeface="Tahoma"/>
              </a:rPr>
              <a:t>твердых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cc00"/>
                </a:solidFill>
                <a:latin typeface="Tahoma"/>
              </a:rPr>
              <a:t>тел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Каково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расположение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молекул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газов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Опишите свойства жидкостей.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Tahoma"/>
              </a:rPr>
              <a:t>Из каких частиц состоит молекула воды?</a:t>
            </a:r>
            <a:br>
              <a:rPr sz="8000"/>
            </a:br>
            <a:br>
              <a:rPr sz="4000"/>
            </a:b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39:36Z</dcterms:created>
  <dc:creator>Андрей</dc:creator>
  <dc:description/>
  <dc:language>en-US</dc:language>
  <cp:lastModifiedBy>Андрей</cp:lastModifiedBy>
  <dcterms:modified xsi:type="dcterms:W3CDTF">2007-10-25T17:04:07Z</dcterms:modified>
  <cp:revision>3</cp:revision>
  <dc:subject/>
  <dc:title>Первоначальные сведения о строении вещества</dc:title>
</cp:coreProperties>
</file>